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1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0.wmf" ContentType="image/x-wmf"/>
  <Override PartName="/ppt/media/image21.jpeg" ContentType="image/jpeg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5.wmf" ContentType="image/x-wmf"/>
  <Override PartName="/ppt/media/image6.png" ContentType="image/png"/>
  <Override PartName="/ppt/media/image1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C2F0D-D38B-4793-8C87-FE00C57592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88970-3882-481E-944F-92BCE284BB0F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2D9E7D-3E0C-4BD3-9A1A-105CA7A33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C3BD61-7F09-4630-92AC-649D40CF8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-206640"/>
            <a:ext cx="82281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CC3305-2371-41BD-BC2E-C2A545F83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C5F90B-DB86-4AE3-802D-B172D5311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4B7A80-6CE7-4A04-B1C7-3BC46FC71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F0778E-B53E-47A7-8174-229BF2024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C926DF-D013-4FE5-9B51-DE6E85DFA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F8C813-ABB9-4527-845D-56D4B7456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F6A42D-6B52-4A40-910A-09B55F7A1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8C9F24-8B13-4B45-BF4F-612093B02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44C22-C6CA-429B-BB24-A125138369E0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CBB6FD-F6E9-447E-9124-419AEBC70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09F29F-5343-4A77-8B09-7520B6618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2A94AA-1162-4B32-BA4D-957C1CF24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5912FD-8CE7-458D-ADC4-06CA1B566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-206640"/>
            <a:ext cx="82281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0F0D66-9549-49EB-BC88-2E4B62381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A5CAD2-3D1F-46CD-AA97-8758E7885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421435-F1C2-48BD-A621-3CF85B59C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0A1D46-5CBC-44D7-9042-6CD22AB93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D2B704-5D55-4362-BCF1-419C7727E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68CD8C-745C-4413-BC31-2EA457876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F3C4E-04A1-4479-B35D-232F264DB060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19568D-DC8F-48FC-BD30-AF65CA5D8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695068E-C7A5-4C98-ACEF-CFDAFFB80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F9BAE44-7EE2-4E0B-AB1E-960196C7A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3BEC449-0D70-40D1-8584-3C56CC670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453F013-5D1B-4732-AB36-202919F12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3C9B8D4-4389-47F7-A449-34D021663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-206640"/>
            <a:ext cx="82281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023015C-56C4-4742-B5FF-A555BE8DE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FD6555C-CF95-4DB1-AB8C-5E039AD0C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4ABB24C-6D8E-4F7B-AACB-F2F1D336C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F65A33A-E69A-4C70-9F41-9BFF57322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BBD432-E3F0-4375-8506-462447F1D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CD36C77-5AAE-403C-A236-B8F0AFA1E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D931E5D-4E14-47A0-9B79-49093EF4F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C437305-E240-4373-BEA3-27D532C12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BA2859-E599-4405-AC9D-F376CBF4F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52B6CD-09E8-4281-B360-BB69D3422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3D7F74-17C5-4D1F-BA45-92811B0D1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BF132C-542E-4DC9-8D93-3FDE99DA4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EE0050-2EF9-4404-9040-935D50EFB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-206640"/>
            <a:ext cx="82281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2526C7-A78A-46BE-B6FF-70D8EFB28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304671-A1AC-4A8C-9967-6AB246128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FD7E91-36E5-4702-BCE8-F00980836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63A755-23A1-40FB-BBC4-E591B0CBE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BD4EDA-A4EC-4514-BDFB-D234D1B51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BDFAE6-CB98-497A-B3A8-07F30129D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D5175C-EC99-40F6-842D-7099F909D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0692CD-AB57-4929-86B4-D7680B0D6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DBBA667-7165-4FE3-B0D2-F3AF6D931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2EE63BB-F05C-4E00-86D8-4306A521B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5C9A904-B7B2-4AAC-9034-7E8D096F0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D36B2B6-86DB-4A59-B325-BF21B6525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E795EAC-4CEE-4A1D-8155-8E9D5A98B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08C159-15EB-4FA4-8940-6FD416BDF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-206640"/>
            <a:ext cx="82281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87349D9-98F6-4D13-9945-76A426483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0B906B7-E8E0-423B-9731-E50752F7E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5D4176A-C3AA-4922-B8FD-CABCBD196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DD36FF6-C159-49F9-B5B0-5A0A85AF7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581A276-39DF-4C29-AFBC-1A2A67313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C70372F-19E8-4C5F-B756-5B3E496D4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CC0BD47-E943-4D3E-B28A-432887686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C388CD-F5B5-4C39-9B3E-5A2CBBFFC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F08CBF-7019-4506-8E0A-4F49C67CD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-206640"/>
            <a:ext cx="82281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62F159-C290-48CD-B6CA-C914C333C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7F3FF2-BB84-4E25-8C36-E66DF3F84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E1BD8-E676-42B4-91B7-AE9DC54CDB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E89865-ED6C-4849-BE38-AD6F89690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BB3B04-4DD3-4C79-83C3-0234D1145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69A390-0F15-442D-8F4B-4FFDA0FDF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5167C4-F728-43FF-9D26-3F72AA148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F2743F-C85B-4B5F-9A31-8D60AC1C4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7780F4-8092-485A-A85F-6328E7340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33ACC3-87EB-46DD-85D9-B305FFE70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9B3ECF-40D0-4059-A726-1C5BFCCD3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4722E6-FAAC-4B71-9205-481D30ED9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1AD715-7F19-4083-A66A-433B655E1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5B75C-E7EF-4311-A99C-1CC030EE4FC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-206640"/>
            <a:ext cx="82281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3050BA-94F0-4565-AFFF-D27A8D459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C74ACD-75F6-4BDB-BEE9-A59D580D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2BF88A-DBF8-43DE-9751-E2B248E67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6FF332-0880-4A23-BD55-8DB339AE4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CD820F-DFC1-423D-B82E-8EA1A3618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E829CB-FDC0-4BF1-8D6F-B882FA313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DF7253-F7C8-4153-829F-BA446ADAC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3CA421-8AC9-4FAC-BCFC-F28ADBE65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5F3407-077B-4F8C-8716-461612081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F4A2F2-45A8-409C-B1B8-4A20B6C4B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32C85-A70C-4C27-A315-031AD55C0E3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752CBD-0636-4FB9-B64F-CCE060F82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7F8554-D714-47E3-A0AF-30C39FFB0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-206640"/>
            <a:ext cx="82281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7698EB-37F5-4EC2-BFEC-F557BD9C6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FD8842-A4FC-41A4-BB5E-BA169DC37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8D709E-B70A-4A5A-B0C0-9D2874648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BA96F2-98F0-4320-B0ED-B1977256C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932F6B-F81B-4BD0-B326-67901FA18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3644B6-E7E1-4116-AF29-1BD708B94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292496-BAE2-4184-86B1-78C59EC5F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2105153-A0E7-4603-BAD5-1063A543D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7EE55-12EB-4527-8238-D494E8820DC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74386C0-E82B-4EBC-AE99-69554A4D0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1A79141-C05F-47F8-A0DD-145F12AE9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7175E47-B421-435F-840D-C7F8E4816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EF846E6-38C7-4161-B294-1AA79EA48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-206640"/>
            <a:ext cx="82281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2734D48-FD67-4D1C-8217-423E38FBC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15C00B1-0023-4D83-A04D-93814D10E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86B8B6D-4638-48CC-B59C-E2FC24F0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239AB71-AD1A-486A-A59B-AD7CDAE12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A7249E2-FE17-4195-8D01-ACD6F8D0C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3ECD5DF-BBFC-4E2A-9600-E61C26B18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-206640"/>
            <a:ext cx="82281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6A44A-FA2F-4F5B-9791-E7CEF4F752F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6F79025-F35D-4E89-AE4D-A38BEE4F6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FE2E8A7-156D-468F-9C19-13F17B52B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EF98B21-F1D8-4776-9D2F-70A12E8A1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ECBFA1A-B435-4707-BCB7-79E35B75E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DE8C75F-C972-4E60-80E8-B6DF54648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D0DDBA6-1FF1-4C03-B2FB-F20A0FD15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-206640"/>
            <a:ext cx="82281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10A6D2C-5251-4A3A-9883-0AEB1CB7E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5E28323-76C9-4D8F-987D-CDA3238FD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7BE7097-5F08-4D6A-8341-60BC72657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193168A-AB9D-4080-A022-0CAEAB0F1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6B02C-4A91-4190-90C4-AAD2132D566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659C411-1BD9-4ABF-98A3-6F799CFC2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B4AC7A4-2C41-425C-B642-BD9135078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2A64A00-1326-46DB-9E8A-2C8475149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2EE8F4F-1225-4209-B018-1796F0BFC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51D1988-F942-46DD-B3CB-EDEDE819A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14CE876-A962-4B38-8E5D-C9CE53A05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58DABFD-FA38-45BA-BDFA-44E7241C3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2FF954D-889A-4AC1-9A33-50460611C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-206640"/>
            <a:ext cx="82281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D54ECDB-2C53-4248-9C3F-8C56604A1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AB62D5D-C45E-4505-B855-8B39E5821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26020-ADB2-4A01-99F7-43E2A72BB111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6FE1F37-0021-403A-9674-60D7B26B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32AC14C-6D7E-47F0-9D2A-C14887AD7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483F3A1-FB9A-4F7F-9125-3094081E6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E23698F-3B43-4251-87D8-799FA137F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B702108-3F81-4ADC-9D0A-80A47C6ED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0ECD468-B242-4D4C-8872-34455A8AC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81F3E6E-4D7A-4721-995D-18A8969A7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E678ED4-8405-498F-80D1-375A03011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63729A0-1286-49D0-9707-4A683A4E0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3DF4F9A-909F-4561-9514-94C69C2C6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42193-C78A-4D75-8DEE-30E429BA351E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-206640"/>
            <a:ext cx="82281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18231BA-C4C6-4C60-99FE-7E56BF816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CA6AC58-D86B-4AD4-B485-F3DF81549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77E8D9B-F106-4A55-BD2A-3323BE77B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D89EB23-C987-40C1-854E-93A5A9071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37DD17D-FBF5-40AB-9B81-309E4A03F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14BC2C4-AEA3-46AC-96C0-3333D7E2B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21DEEF1-5CA0-44A7-B8B5-689130123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D80CDF-32A8-43D6-A5B9-54E77B7AE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7FAB9C-FF8B-4530-8946-74E5279BF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D82CFC-EF22-4477-BB90-3652C1BC0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fc6"/>
            </a:gs>
            <a:gs pos="50000">
              <a:srgbClr val="dbccde"/>
            </a:gs>
            <a:gs pos="100000">
              <a:srgbClr val="25ffc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 Black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73BBF88-9998-4D97-8B8E-EC61768EBA54}" type="slidenum">
              <a:rPr b="0" lang="ru-RU" sz="1800" spc="-1" strike="noStrike">
                <a:solidFill>
                  <a:srgbClr val="000000"/>
                </a:solidFill>
                <a:latin typeface="Arial Black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fc6"/>
            </a:gs>
            <a:gs pos="50000">
              <a:srgbClr val="dbccde"/>
            </a:gs>
            <a:gs pos="100000">
              <a:srgbClr val="25ffc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2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5472F95-9AA3-40D1-8EED-9495032CDE71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fc6"/>
            </a:gs>
            <a:gs pos="50000">
              <a:srgbClr val="dbccde"/>
            </a:gs>
            <a:gs pos="100000">
              <a:srgbClr val="25ffc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8410D85-AAE1-4F7D-AC73-ACADC62AAEB3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fc6"/>
            </a:gs>
            <a:gs pos="50000">
              <a:srgbClr val="dbccde"/>
            </a:gs>
            <a:gs pos="100000">
              <a:srgbClr val="25ffc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F24EFC4-F2CB-441E-8BC6-A57A9EE93743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fc6"/>
            </a:gs>
            <a:gs pos="50000">
              <a:srgbClr val="dbccde"/>
            </a:gs>
            <a:gs pos="100000">
              <a:srgbClr val="25ffc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56E53CB-8B20-4049-8AC3-7ADD89C63DDF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fc6"/>
            </a:gs>
            <a:gs pos="50000">
              <a:srgbClr val="dbccde"/>
            </a:gs>
            <a:gs pos="100000">
              <a:srgbClr val="25ffc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45796-229D-4ACB-94A1-3A904B55C74E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fc6"/>
            </a:gs>
            <a:gs pos="50000">
              <a:srgbClr val="dbccde"/>
            </a:gs>
            <a:gs pos="100000">
              <a:srgbClr val="25ffc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0155A45-E0A9-4ED2-AC07-0A843A7AFC76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fc6"/>
            </a:gs>
            <a:gs pos="50000">
              <a:srgbClr val="dbccde"/>
            </a:gs>
            <a:gs pos="100000">
              <a:srgbClr val="25ffc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48A243D-8206-4A8D-AB5D-647FE8891888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fc6"/>
            </a:gs>
            <a:gs pos="50000">
              <a:srgbClr val="dbccde"/>
            </a:gs>
            <a:gs pos="100000">
              <a:srgbClr val="25ffc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93DA9F4-D72F-444D-AF06-786CC47ABC9B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fc6"/>
            </a:gs>
            <a:gs pos="50000">
              <a:srgbClr val="dbccde"/>
            </a:gs>
            <a:gs pos="100000">
              <a:srgbClr val="25ffc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094B4B7-5B8C-4205-88E1-B7D704C5448F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fc6"/>
            </a:gs>
            <a:gs pos="50000">
              <a:srgbClr val="dbccde"/>
            </a:gs>
            <a:gs pos="100000">
              <a:srgbClr val="25ffc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3B2F85D-E74B-460F-B1CA-D9721F4C87DB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fc6"/>
            </a:gs>
            <a:gs pos="50000">
              <a:srgbClr val="dbccde"/>
            </a:gs>
            <a:gs pos="100000">
              <a:srgbClr val="25ffc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6AF25B4-7724-47D6-9541-C1613E56864C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fc6"/>
            </a:gs>
            <a:gs pos="50000">
              <a:srgbClr val="dbccde"/>
            </a:gs>
            <a:gs pos="100000">
              <a:srgbClr val="25ffc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97E3B39-CC89-4505-A05A-0551BFF336D9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-208080"/>
            <a:ext cx="822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 Black"/>
              </a:rPr>
              <a:t>ЭМОЦИИ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457200" y="1644120"/>
            <a:ext cx="82296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5" name="Picture 3" descr=""/>
          <p:cNvPicPr/>
          <p:nvPr/>
        </p:nvPicPr>
        <p:blipFill>
          <a:blip r:embed="rId1"/>
          <a:stretch/>
        </p:blipFill>
        <p:spPr>
          <a:xfrm>
            <a:off x="539640" y="1260360"/>
            <a:ext cx="828036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Black"/>
              </a:rPr>
              <a:t>Мечтает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64" name="Picture 5" descr="000803_1063_3051_vuvv"/>
          <p:cNvPicPr/>
          <p:nvPr/>
        </p:nvPicPr>
        <p:blipFill>
          <a:blip r:embed="rId1"/>
          <a:stretch/>
        </p:blipFill>
        <p:spPr>
          <a:xfrm>
            <a:off x="3124080" y="1905120"/>
            <a:ext cx="2914920" cy="4422600"/>
          </a:xfrm>
          <a:prstGeom prst="rect">
            <a:avLst/>
          </a:prstGeom>
          <a:ln w="0">
            <a:noFill/>
          </a:ln>
        </p:spPr>
      </p:pic>
      <p:pic>
        <p:nvPicPr>
          <p:cNvPr id="565" name="Запи2457.WAV" descr=""/>
          <p:cNvPicPr/>
          <p:nvPr/>
        </p:nvPicPr>
        <p:blipFill>
          <a:blip r:embed="rId2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" dur="4181" fill="hold"/>
                                        <p:tgtEl>
                                          <p:spTgt spid="5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Black"/>
              </a:rPr>
              <a:t>Секретничает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67" name="Picture 5" descr="000803_1063_3048_vuvv"/>
          <p:cNvPicPr/>
          <p:nvPr/>
        </p:nvPicPr>
        <p:blipFill>
          <a:blip r:embed="rId1"/>
          <a:stretch/>
        </p:blipFill>
        <p:spPr>
          <a:xfrm>
            <a:off x="2971800" y="1523880"/>
            <a:ext cx="3328920" cy="4907160"/>
          </a:xfrm>
          <a:prstGeom prst="rect">
            <a:avLst/>
          </a:prstGeom>
          <a:ln w="0">
            <a:noFill/>
          </a:ln>
        </p:spPr>
      </p:pic>
      <p:pic>
        <p:nvPicPr>
          <p:cNvPr id="568" name="Запи2457.WAV" descr=""/>
          <p:cNvPicPr/>
          <p:nvPr/>
        </p:nvPicPr>
        <p:blipFill>
          <a:blip r:embed="rId2"/>
          <a:stretch/>
        </p:blipFill>
        <p:spPr>
          <a:xfrm>
            <a:off x="87631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" dur="3004" fill="hold"/>
                                        <p:tgtEl>
                                          <p:spTgt spid="5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Black"/>
              </a:rPr>
              <a:t>Замышляет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70" name="Picture 5" descr="000803_1063_3049_vuvv"/>
          <p:cNvPicPr/>
          <p:nvPr/>
        </p:nvPicPr>
        <p:blipFill>
          <a:blip r:embed="rId1"/>
          <a:stretch/>
        </p:blipFill>
        <p:spPr>
          <a:xfrm>
            <a:off x="3048120" y="1600200"/>
            <a:ext cx="3146400" cy="4708440"/>
          </a:xfrm>
          <a:prstGeom prst="rect">
            <a:avLst/>
          </a:prstGeom>
          <a:ln w="0">
            <a:noFill/>
          </a:ln>
        </p:spPr>
      </p:pic>
      <p:pic>
        <p:nvPicPr>
          <p:cNvPr id="571" name="Запи2457.WAV" descr=""/>
          <p:cNvPicPr/>
          <p:nvPr/>
        </p:nvPicPr>
        <p:blipFill>
          <a:blip r:embed="rId2"/>
          <a:stretch/>
        </p:blipFill>
        <p:spPr>
          <a:xfrm>
            <a:off x="9026640" y="-3808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" dur="3822" fill="hold"/>
                                        <p:tgtEl>
                                          <p:spTgt spid="5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Black"/>
              </a:rPr>
              <a:t>Радостный, возбужденный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73" name="Picture 5" descr="000803_1063_3047_vuvv"/>
          <p:cNvPicPr/>
          <p:nvPr/>
        </p:nvPicPr>
        <p:blipFill>
          <a:blip r:embed="rId1"/>
          <a:stretch/>
        </p:blipFill>
        <p:spPr>
          <a:xfrm>
            <a:off x="3124080" y="1523880"/>
            <a:ext cx="3019680" cy="5015160"/>
          </a:xfrm>
          <a:prstGeom prst="rect">
            <a:avLst/>
          </a:prstGeom>
          <a:ln w="0">
            <a:noFill/>
          </a:ln>
        </p:spPr>
      </p:pic>
      <p:pic>
        <p:nvPicPr>
          <p:cNvPr id="574" name="Запи2457.WAV" descr=""/>
          <p:cNvPicPr/>
          <p:nvPr/>
        </p:nvPicPr>
        <p:blipFill>
          <a:blip r:embed="rId2"/>
          <a:stretch/>
        </p:blipFill>
        <p:spPr>
          <a:xfrm>
            <a:off x="902664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" dur="9439" fill="hold"/>
                                        <p:tgtEl>
                                          <p:spTgt spid="5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Black"/>
              </a:rPr>
              <a:t>Озадачен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76" name="Picture 5" descr="000803_1063_3050_vuvv"/>
          <p:cNvPicPr/>
          <p:nvPr/>
        </p:nvPicPr>
        <p:blipFill>
          <a:blip r:embed="rId1"/>
          <a:stretch/>
        </p:blipFill>
        <p:spPr>
          <a:xfrm>
            <a:off x="3048120" y="1676520"/>
            <a:ext cx="2925720" cy="4722840"/>
          </a:xfrm>
          <a:prstGeom prst="rect">
            <a:avLst/>
          </a:prstGeom>
          <a:ln w="0">
            <a:noFill/>
          </a:ln>
        </p:spPr>
      </p:pic>
      <p:pic>
        <p:nvPicPr>
          <p:cNvPr id="577" name="Запи2473.WAV" descr=""/>
          <p:cNvPicPr/>
          <p:nvPr/>
        </p:nvPicPr>
        <p:blipFill>
          <a:blip r:embed="rId2"/>
          <a:stretch/>
        </p:blipFill>
        <p:spPr>
          <a:xfrm>
            <a:off x="87631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3961" fill="hold"/>
                                        <p:tgtEl>
                                          <p:spTgt spid="5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Black"/>
              </a:rPr>
              <a:t>Кривляется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79" name="Picture 5" descr="000803_1063_3052_vuvv"/>
          <p:cNvPicPr/>
          <p:nvPr/>
        </p:nvPicPr>
        <p:blipFill>
          <a:blip r:embed="rId1"/>
          <a:stretch/>
        </p:blipFill>
        <p:spPr>
          <a:xfrm>
            <a:off x="2743200" y="1676520"/>
            <a:ext cx="3787920" cy="4566960"/>
          </a:xfrm>
          <a:prstGeom prst="rect">
            <a:avLst/>
          </a:prstGeom>
          <a:ln w="0">
            <a:noFill/>
          </a:ln>
        </p:spPr>
      </p:pic>
      <p:pic>
        <p:nvPicPr>
          <p:cNvPr id="580" name="Запи2473.WAV" descr=""/>
          <p:cNvPicPr/>
          <p:nvPr/>
        </p:nvPicPr>
        <p:blipFill>
          <a:blip r:embed="rId2"/>
          <a:stretch/>
        </p:blipFill>
        <p:spPr>
          <a:xfrm>
            <a:off x="8686800" y="-3808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" dur="3542" fill="hold"/>
                                        <p:tgtEl>
                                          <p:spTgt spid="5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1" descr=""/>
          <p:cNvPicPr/>
          <p:nvPr/>
        </p:nvPicPr>
        <p:blipFill>
          <a:blip r:embed="rId1"/>
          <a:stretch/>
        </p:blipFill>
        <p:spPr>
          <a:xfrm>
            <a:off x="155520" y="136440"/>
            <a:ext cx="8845560" cy="634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179280" y="544320"/>
            <a:ext cx="8229600" cy="69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ЗАДАНИЕ А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1.Что такое эмоции?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2.Какие бывают эмоции?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3.Как можно выразить эмоции?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4.Перечисли положительные эмоции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5.Перечисли отрицательные эмоции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6.Почему важно научиться управлять своими эмоциями?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ЗАДАНИЕ В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Компьютерный тест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ЗАДАНИЕ С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1.Определи, какие чувства испытывают ребята на рисунке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2.Закончи предложение(начало см. на доске)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3.Напиши 2-3 совета, которые помогут твоему другу избавиться от плохого настроения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cc99"/>
                </a:solidFill>
                <a:latin typeface="Arial Black"/>
              </a:rPr>
              <a:t>Эмоции человека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8" name="Picture 4" descr="000803_1065_1904_vnvv"/>
          <p:cNvPicPr/>
          <p:nvPr/>
        </p:nvPicPr>
        <p:blipFill>
          <a:blip r:embed="rId1"/>
          <a:stretch/>
        </p:blipFill>
        <p:spPr>
          <a:xfrm>
            <a:off x="304920" y="3962520"/>
            <a:ext cx="1633320" cy="257328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5" descr="000803_1065_0322_vuvv"/>
          <p:cNvPicPr/>
          <p:nvPr/>
        </p:nvPicPr>
        <p:blipFill>
          <a:blip r:embed="rId2"/>
          <a:stretch/>
        </p:blipFill>
        <p:spPr>
          <a:xfrm>
            <a:off x="7010280" y="228600"/>
            <a:ext cx="2133720" cy="236520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7" descr="000803_1065_1829_vnvv"/>
          <p:cNvPicPr/>
          <p:nvPr/>
        </p:nvPicPr>
        <p:blipFill>
          <a:blip r:embed="rId3"/>
          <a:stretch/>
        </p:blipFill>
        <p:spPr>
          <a:xfrm>
            <a:off x="6629400" y="3886200"/>
            <a:ext cx="2044800" cy="275256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8" descr="000803_1065_4090_vnvv"/>
          <p:cNvPicPr/>
          <p:nvPr/>
        </p:nvPicPr>
        <p:blipFill>
          <a:blip r:embed="rId4"/>
          <a:stretch/>
        </p:blipFill>
        <p:spPr>
          <a:xfrm>
            <a:off x="152280" y="0"/>
            <a:ext cx="1662120" cy="2705040"/>
          </a:xfrm>
          <a:prstGeom prst="rect">
            <a:avLst/>
          </a:prstGeom>
          <a:ln w="0">
            <a:noFill/>
          </a:ln>
        </p:spPr>
      </p:pic>
      <p:pic>
        <p:nvPicPr>
          <p:cNvPr id="542" name="Запи2442.WAV" descr=""/>
          <p:cNvPicPr/>
          <p:nvPr/>
        </p:nvPicPr>
        <p:blipFill>
          <a:blip r:embed="rId5"/>
          <a:stretch/>
        </p:blipFill>
        <p:spPr>
          <a:xfrm>
            <a:off x="8610480" y="-609480"/>
            <a:ext cx="23364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54" fill="hold"/>
                                        <p:tgtEl>
                                          <p:spTgt spid="5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 Black"/>
              </a:rPr>
              <a:t>У людей бывает разное настроение, от которого зависит выражение лица. Глядя на лицо, можно сказать, что чувствует человек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44" name="Запи2442.WAV" descr=""/>
          <p:cNvPicPr/>
          <p:nvPr/>
        </p:nvPicPr>
        <p:blipFill>
          <a:blip r:embed="rId1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5" descr="000803_1064_4238_vuvv"/>
          <p:cNvPicPr/>
          <p:nvPr/>
        </p:nvPicPr>
        <p:blipFill>
          <a:blip r:embed="rId2"/>
          <a:stretch/>
        </p:blipFill>
        <p:spPr>
          <a:xfrm>
            <a:off x="4495680" y="3733920"/>
            <a:ext cx="4419720" cy="291312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6" descr="000803_1064_6011_vnvv"/>
          <p:cNvPicPr/>
          <p:nvPr/>
        </p:nvPicPr>
        <p:blipFill>
          <a:blip r:embed="rId3"/>
          <a:stretch/>
        </p:blipFill>
        <p:spPr>
          <a:xfrm>
            <a:off x="228600" y="1447920"/>
            <a:ext cx="3921120" cy="413388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7" descr="000803_1054_6855_vuvv"/>
          <p:cNvPicPr/>
          <p:nvPr/>
        </p:nvPicPr>
        <p:blipFill>
          <a:blip r:embed="rId4"/>
          <a:stretch/>
        </p:blipFill>
        <p:spPr>
          <a:xfrm>
            <a:off x="4572000" y="1600200"/>
            <a:ext cx="2217600" cy="2255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1105" fill="hold"/>
                                        <p:tgtEl>
                                          <p:spTgt spid="5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Black"/>
              </a:rPr>
              <a:t>Добрый</a:t>
            </a:r>
            <a:r>
              <a:rPr b="0" lang="ru-RU" sz="4400" spc="-1" strike="noStrike">
                <a:solidFill>
                  <a:srgbClr val="009999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49" name="Picture 5" descr="000803_1063_3043_vuvv"/>
          <p:cNvPicPr/>
          <p:nvPr/>
        </p:nvPicPr>
        <p:blipFill>
          <a:blip r:embed="rId1"/>
          <a:stretch/>
        </p:blipFill>
        <p:spPr>
          <a:xfrm>
            <a:off x="3048120" y="1828800"/>
            <a:ext cx="3287520" cy="4524480"/>
          </a:xfrm>
          <a:prstGeom prst="rect">
            <a:avLst/>
          </a:prstGeom>
          <a:ln w="0">
            <a:noFill/>
          </a:ln>
        </p:spPr>
      </p:pic>
      <p:pic>
        <p:nvPicPr>
          <p:cNvPr id="550" name="Запи2457.WAV" descr=""/>
          <p:cNvPicPr/>
          <p:nvPr/>
        </p:nvPicPr>
        <p:blipFill>
          <a:blip r:embed="rId2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" dur="4261" fill="hold"/>
                                        <p:tgtEl>
                                          <p:spTgt spid="5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Black"/>
              </a:rPr>
              <a:t>Недовольный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52" name="Picture 5" descr="000803_1063_3042_vuvv"/>
          <p:cNvPicPr/>
          <p:nvPr/>
        </p:nvPicPr>
        <p:blipFill>
          <a:blip r:embed="rId1"/>
          <a:stretch/>
        </p:blipFill>
        <p:spPr>
          <a:xfrm>
            <a:off x="2895480" y="1295280"/>
            <a:ext cx="3409920" cy="5149800"/>
          </a:xfrm>
          <a:prstGeom prst="rect">
            <a:avLst/>
          </a:prstGeom>
          <a:ln w="0">
            <a:noFill/>
          </a:ln>
        </p:spPr>
      </p:pic>
      <p:pic>
        <p:nvPicPr>
          <p:cNvPr id="553" name="Запи2457.WAV" descr=""/>
          <p:cNvPicPr/>
          <p:nvPr/>
        </p:nvPicPr>
        <p:blipFill>
          <a:blip r:embed="rId2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3293" fill="hold"/>
                                        <p:tgtEl>
                                          <p:spTgt spid="5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Black"/>
              </a:rPr>
              <a:t>Испуган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55" name="Picture 5" descr="000803_1063_3045_vuvv"/>
          <p:cNvPicPr/>
          <p:nvPr/>
        </p:nvPicPr>
        <p:blipFill>
          <a:blip r:embed="rId1"/>
          <a:stretch/>
        </p:blipFill>
        <p:spPr>
          <a:xfrm>
            <a:off x="2819520" y="1676520"/>
            <a:ext cx="3798720" cy="4343400"/>
          </a:xfrm>
          <a:prstGeom prst="rect">
            <a:avLst/>
          </a:prstGeom>
          <a:ln w="0">
            <a:noFill/>
          </a:ln>
        </p:spPr>
      </p:pic>
      <p:pic>
        <p:nvPicPr>
          <p:cNvPr id="556" name="Запи2457.WAV" descr=""/>
          <p:cNvPicPr/>
          <p:nvPr/>
        </p:nvPicPr>
        <p:blipFill>
          <a:blip r:embed="rId2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" dur="3742" fill="hold"/>
                                        <p:tgtEl>
                                          <p:spTgt spid="5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Black"/>
              </a:rPr>
              <a:t>Веселый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58" name="Picture 5" descr="000803_1063_3044_vuvv"/>
          <p:cNvPicPr/>
          <p:nvPr/>
        </p:nvPicPr>
        <p:blipFill>
          <a:blip r:embed="rId1"/>
          <a:stretch/>
        </p:blipFill>
        <p:spPr>
          <a:xfrm>
            <a:off x="2895480" y="1752480"/>
            <a:ext cx="3459240" cy="4560840"/>
          </a:xfrm>
          <a:prstGeom prst="rect">
            <a:avLst/>
          </a:prstGeom>
          <a:ln w="0">
            <a:noFill/>
          </a:ln>
        </p:spPr>
      </p:pic>
      <p:pic>
        <p:nvPicPr>
          <p:cNvPr id="559" name="Запи2457.WAV" descr=""/>
          <p:cNvPicPr/>
          <p:nvPr/>
        </p:nvPicPr>
        <p:blipFill>
          <a:blip r:embed="rId2"/>
          <a:stretch/>
        </p:blipFill>
        <p:spPr>
          <a:xfrm>
            <a:off x="902664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" dur="4161" fill="hold"/>
                                        <p:tgtEl>
                                          <p:spTgt spid="5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Black"/>
              </a:rPr>
              <a:t>Злой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61" name="Picture 5" descr="000803_1063_3046_vuvv"/>
          <p:cNvPicPr/>
          <p:nvPr/>
        </p:nvPicPr>
        <p:blipFill>
          <a:blip r:embed="rId1"/>
          <a:stretch/>
        </p:blipFill>
        <p:spPr>
          <a:xfrm>
            <a:off x="3048120" y="1600200"/>
            <a:ext cx="2962080" cy="5014800"/>
          </a:xfrm>
          <a:prstGeom prst="rect">
            <a:avLst/>
          </a:prstGeom>
          <a:ln w="0">
            <a:noFill/>
          </a:ln>
        </p:spPr>
      </p:pic>
      <p:pic>
        <p:nvPicPr>
          <p:cNvPr id="562" name="Запи2457.WAV" descr=""/>
          <p:cNvPicPr/>
          <p:nvPr/>
        </p:nvPicPr>
        <p:blipFill>
          <a:blip r:embed="rId2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3253" fill="hold"/>
                                        <p:tgtEl>
                                          <p:spTgt spid="5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школа</cp:lastModifiedBy>
  <dcterms:modified xsi:type="dcterms:W3CDTF">2012-03-17T03:24:24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